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766-DB55-4DC8-9554-6C9AF33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850-EA31-4CCB-B025-94CB3F97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477-3211-444A-94DC-8C483417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D88-C2FD-4B4C-B80B-10813C89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276-A812-4790-8A74-CE6DF009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450-7F47-4EBC-B153-E420FCE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9C7-2F87-4E01-87CF-3EA88C2E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698-420A-4F59-B7E5-197671BC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B5E-D161-4087-ABEE-5F7BF143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762-99A3-4761-8659-3940C58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995-4CA1-4ACD-8C22-6D89742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3B8-699F-4342-A68B-BAE5EE7A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4B73-5324-4E19-9841-6C6B8A5D8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914400"/>
            <a:ext cx="415764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eative Logo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3962520"/>
            <a:ext cx="3333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idden Messag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1123920"/>
            <a:ext cx="5410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933480"/>
            <a:ext cx="63244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38280" y="1660680"/>
            <a:ext cx="434340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1417680"/>
            <a:ext cx="5257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60195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141768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1316160"/>
            <a:ext cx="5410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189080"/>
            <a:ext cx="5257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1123920"/>
            <a:ext cx="52578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22:55:24Z</dcterms:created>
  <dc:creator>Patrick J. Mooney</dc:creator>
  <dc:description/>
  <dc:language>en-US</dc:language>
  <cp:lastModifiedBy>Patrick J. Mooney</cp:lastModifiedBy>
  <dcterms:modified xsi:type="dcterms:W3CDTF">2011-09-22T00:11:15Z</dcterms:modified>
  <cp:revision>3</cp:revision>
  <dc:subject/>
  <dc:title>Slide 1</dc:title>
</cp:coreProperties>
</file>